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B4D1-F01E-471E-A7F3-9D9FBF2D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5BA-FAF5-4450-BDAD-2E16F32A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39D8-4899-4B0F-8008-CE35122A8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C1-97DE-4F96-9FB3-4F4D4E84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A59-09F9-4553-A772-709E75A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D63-6711-4B32-A00F-7952ABA2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ECAD-543D-4006-AF94-5613A6F7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750A-A4ED-4E8F-AD9D-8712A7EE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BD7-386D-4C83-B718-5F1A42F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7D6-BEAB-4AF0-81E4-D8BA26DC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5ADA-3802-48A1-B8CC-1C5BC044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7E1-75C0-4387-8A0D-D8285663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7AE-565C-4000-9E22-EF14C81A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023-3C72-4A8A-B85E-8EDC054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E028-E10D-4D03-A4DE-DBE22A48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537-810B-4E86-A9FF-B25143DD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chc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, Holly Ham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an Ro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h L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ry R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ing someone up and throwing them into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sa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n’t a witch, but they were d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floated? (like a c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ere a wit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time, the accused person would struggle and flail around in the water so they’d break free and swim to the top of the water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y had a “witchma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thing like a mole, wart, or discoloration of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witchmark” was considered to be where the devil touched th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one would poke them with a needle-like object on their “witchmark” and if they felt no pain then they were  said to be a 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y bleed then they were inno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determine who were witches? (cont’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of a low social status then people sometimes thought that they could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, witches were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omeone was a studier of medicine, then people thought that they might be a 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ditional punishment for convicted witches was being burned at the stake. This started in Europe in the witch 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 was known for hanging their witches as well as burn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England forbade it, Scotland sanctioned the torturing of witches in order to receive confe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shing Witch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rturing methods inclu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d walking or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ing, the act of putting a board on the body and putting weight on it, wa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Witch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ed in Chelmsford, Essex England during 156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 about as a result of pressure from the chu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irst trial to be written up in a pamphle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Frances used a cat to inflict harm on Agnes Waterhouse and her daughter Jo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was found guilty and put in jail while Agnes was h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witchh.gif"/>
          <p:cNvPicPr/>
          <p:nvPr/>
        </p:nvPicPr>
        <p:blipFill>
          <a:blip r:embed="rId1"/>
          <a:stretch/>
        </p:blipFill>
        <p:spPr>
          <a:xfrm>
            <a:off x="5562720" y="1295280"/>
            <a:ext cx="297180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d in Salem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2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were accused of witchcraft and 200 were put in j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uba, Sarah Good, and Sarah Osbourne were accused of witchcraft and thrown in jail due to Tituba’s conf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Owner\AppData\Local\Microsoft\Windows\Temporary Internet Files\Content.IE5\FTPW0WSL\MC900436216[1].png"/>
          <p:cNvPicPr/>
          <p:nvPr/>
        </p:nvPicPr>
        <p:blipFill>
          <a:blip r:embed="rId1"/>
          <a:stretch/>
        </p:blipFill>
        <p:spPr>
          <a:xfrm>
            <a:off x="380880" y="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Owner\AppData\Local\Microsoft\Windows\Temporary Internet Files\Content.IE5\XOZAUS8J\MC900027392[1].wmf"/>
          <p:cNvPicPr/>
          <p:nvPr/>
        </p:nvPicPr>
        <p:blipFill>
          <a:blip r:embed="rId2"/>
          <a:stretch/>
        </p:blipFill>
        <p:spPr>
          <a:xfrm>
            <a:off x="6858000" y="914400"/>
            <a:ext cx="1908000" cy="1492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witch.jpg"/>
          <p:cNvPicPr/>
          <p:nvPr/>
        </p:nvPicPr>
        <p:blipFill>
          <a:blip r:embed="rId3"/>
          <a:stretch/>
        </p:blipFill>
        <p:spPr>
          <a:xfrm>
            <a:off x="2819520" y="3962520"/>
            <a:ext cx="32004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witchcra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 agreement hasn’t been reached on what witchcraft was, or might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bout 3 definitions that can be used to understand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craft, a form of sorcery, or the magical manipulation of nature for self-aggrandizement, or for the benefit or harm of a client. This manipulation often involves the use of spirit-helpers, or familia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colonists defined witchcraft as “the use of supernatural power, usually but not always for har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witches were considered h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ir powers for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Englanders defini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elieved some humans were darkly unnatural and possessed supernatural a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sed witches were said to abuse their powers by wreaking havoc on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tive for why witchcraft was used was how the term wa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ood witchcraft as a relationship between a human being and the devi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for evidence of this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elling Puritans of the pain they felt when warding of Satan’s attempt to lure them they gave useful evidence for their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ans believe New England witch-craft as a way to express social and cultural anxieties among accusers rather than the harm the accused was acc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der, religion, and psychology lent bias to deciphering the meanings of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determine who were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aw them performing witch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dmitted 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HRomero1993\AppData\Local\Microsoft\Windows\Temporary Internet Files\Content.IE5\DU3GFPBJ\MC900436109[1].wmf"/>
          <p:cNvPicPr/>
          <p:nvPr/>
        </p:nvPicPr>
        <p:blipFill>
          <a:blip r:embed="rId1"/>
          <a:stretch/>
        </p:blipFill>
        <p:spPr>
          <a:xfrm>
            <a:off x="2057400" y="2819520"/>
            <a:ext cx="46483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6524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id they determine who were witches (cont’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4800" y="1371240"/>
            <a:ext cx="51116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s” are given to them by the dev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imals that wreaked havoc on the surround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sively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familiars"/>
          <p:cNvPicPr/>
          <p:nvPr/>
        </p:nvPicPr>
        <p:blipFill>
          <a:blip r:embed="rId1"/>
          <a:stretch/>
        </p:blipFill>
        <p:spPr>
          <a:xfrm>
            <a:off x="457200" y="1371600"/>
            <a:ext cx="3017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3:55:24Z</dcterms:created>
  <dc:creator>aps13.romeiva</dc:creator>
  <dc:description/>
  <dc:language>en-US</dc:language>
  <cp:lastModifiedBy>Daniel D. Robson</cp:lastModifiedBy>
  <dcterms:modified xsi:type="dcterms:W3CDTF">2011-10-25T01:36:14Z</dcterms:modified>
  <cp:revision>29</cp:revision>
  <dc:subject/>
  <dc:title>Witchcraft</dc:title>
</cp:coreProperties>
</file>